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B37-3199-49D7-A255-38BB1818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138-3E64-4E71-BF38-5D185C0B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823-2CAF-4FC3-9B83-81DA08BF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373-2BE5-48AF-9FA2-E66695A7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EEC-2F36-4AD5-BF43-55550200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566-20C6-4A83-BD20-305F9D1D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0CA-45A2-48B8-B6D2-57D16085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088-DECE-4D7A-B5BA-F778CB94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B7B-D7F0-4061-B53E-A4E9DAC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941-6B02-489B-BFC4-3150083B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403-783D-4C92-ADEB-E3CDBDF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413-BB25-43F7-A8F4-7BF81893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FF8F-0F34-4025-810D-7B29116EA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OINT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 THE 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INTS GONE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thriti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r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Joi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Inflam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Disease that causes pain, stiffness, and swelling of a joi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1 out of 7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Can be caused by bacterial infection or gen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Synovial membranes thicken, less fluid, more bone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types of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teoarthritis (OA): chronic. Cartilage wears out between bones, usu. causes bone sp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eumatoid Arthritis (RA): chronic. An autoimmune disorder where the body destroys its own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heumatoid art"/>
          <p:cNvPicPr/>
          <p:nvPr/>
        </p:nvPicPr>
        <p:blipFill>
          <a:blip r:embed="rId2"/>
          <a:stretch/>
        </p:blipFill>
        <p:spPr>
          <a:xfrm>
            <a:off x="5334120" y="41148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633960"/>
            <a:ext cx="16002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Gouty Arthritis (Gout): Uric acid accumulates in the blood and is deposited as needle-shaped crystals in the j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painful and can cause joints to f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gout"/>
          <p:cNvPicPr/>
          <p:nvPr/>
        </p:nvPicPr>
        <p:blipFill>
          <a:blip r:embed="rId2"/>
          <a:stretch/>
        </p:blipFill>
        <p:spPr>
          <a:xfrm>
            <a:off x="3886200" y="2514600"/>
            <a:ext cx="2536920" cy="281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gout crystals"/>
          <p:cNvPicPr/>
          <p:nvPr/>
        </p:nvPicPr>
        <p:blipFill>
          <a:blip r:embed="rId3"/>
          <a:stretch/>
        </p:blipFill>
        <p:spPr>
          <a:xfrm>
            <a:off x="762120" y="2514600"/>
            <a:ext cx="2514600" cy="2494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824040" y="50655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ut Crys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teopo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in bone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thin, brittle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crease in estrogen can ca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diet, smoking, and lack of vitamin D also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OsteoporosisBone"/>
          <p:cNvPicPr/>
          <p:nvPr/>
        </p:nvPicPr>
        <p:blipFill>
          <a:blip r:embed="rId2"/>
          <a:stretch/>
        </p:blipFill>
        <p:spPr>
          <a:xfrm>
            <a:off x="3733920" y="4054320"/>
            <a:ext cx="35049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J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ea where two or more bones articulate (mo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s give structure and flexibility to the skele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nad xray"/>
          <p:cNvPicPr/>
          <p:nvPr/>
        </p:nvPicPr>
        <p:blipFill>
          <a:blip r:embed="rId2"/>
          <a:stretch/>
        </p:blipFill>
        <p:spPr>
          <a:xfrm>
            <a:off x="2743200" y="4495680"/>
            <a:ext cx="29718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al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Synarthroses: Immovable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Amphiarthroses: Slightly movable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Diarthroses:  Freely Mo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al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brous J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Bones are connected by dense fibrous tissue – usu. immo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tilaginous J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ones are connected by cartilage (vertebral column, pubic bones)  - usu. Slightly movable or immo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vial J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 joint cavity with fluid allowing highly movable j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ular Cartilage covers the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ous Articular capsule is formed by the synovi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t cavity has lubricating synovial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nforcing ligaments usually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ynovialjoint"/>
          <p:cNvPicPr/>
          <p:nvPr/>
        </p:nvPicPr>
        <p:blipFill>
          <a:blip r:embed="rId2"/>
          <a:stretch/>
        </p:blipFill>
        <p:spPr>
          <a:xfrm>
            <a:off x="4648320" y="1600200"/>
            <a:ext cx="4197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tator Cuff In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houlder-rotator-cuff-4"/>
          <p:cNvPicPr/>
          <p:nvPr/>
        </p:nvPicPr>
        <p:blipFill>
          <a:blip r:embed="rId2"/>
          <a:stretch/>
        </p:blipFill>
        <p:spPr>
          <a:xfrm>
            <a:off x="2133720" y="1600200"/>
            <a:ext cx="4119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ynovial Joi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 Joint: Slipping or gliding movement between bones (wrist/ank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inge Joint: Motion on a single plane (elb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Pivot Joint: Movement of a bone along its longitudinal axis (radius, atlas/axis “n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ynovial J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Condyloid Joint: Oval surfaces (concave/convex) on two bones match (metacarpal/phalange joint-knuck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etacarpalsphalmc"/>
          <p:cNvPicPr/>
          <p:nvPr/>
        </p:nvPicPr>
        <p:blipFill>
          <a:blip r:embed="rId2"/>
          <a:stretch/>
        </p:blipFill>
        <p:spPr>
          <a:xfrm>
            <a:off x="2819520" y="3809880"/>
            <a:ext cx="3581280" cy="2187720"/>
          </a:xfrm>
          <a:prstGeom prst="rect">
            <a:avLst/>
          </a:prstGeom>
          <a:ln w="0">
            <a:noFill/>
          </a:ln>
        </p:spPr>
      </p:pic>
      <p:sp>
        <p:nvSpPr>
          <p:cNvPr id="62" name="Line 5"/>
          <p:cNvSpPr/>
          <p:nvPr/>
        </p:nvSpPr>
        <p:spPr>
          <a:xfrm flipH="1" flipV="1">
            <a:off x="5867280" y="4495320"/>
            <a:ext cx="1371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ynovial J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Saddle Joint: concave/convex surfaces with greater range of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rpo-metacarpal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your thum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 Ball and Socket Joint: The head of a bone fits into a cuplike socket (femur/acetabul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ddle joint"/>
          <p:cNvPicPr/>
          <p:nvPr/>
        </p:nvPicPr>
        <p:blipFill>
          <a:blip r:embed="rId2"/>
          <a:stretch/>
        </p:blipFill>
        <p:spPr>
          <a:xfrm>
            <a:off x="6095880" y="2743200"/>
            <a:ext cx="2210040" cy="158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femur head"/>
          <p:cNvPicPr/>
          <p:nvPr/>
        </p:nvPicPr>
        <p:blipFill>
          <a:blip r:embed="rId3"/>
          <a:stretch/>
        </p:blipFill>
        <p:spPr>
          <a:xfrm>
            <a:off x="5334120" y="5181480"/>
            <a:ext cx="21333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23:58:08Z</dcterms:created>
  <dc:creator>Jeff Burghardt</dc:creator>
  <dc:description/>
  <dc:language>en-US</dc:language>
  <cp:lastModifiedBy>Administrator</cp:lastModifiedBy>
  <dcterms:modified xsi:type="dcterms:W3CDTF">2010-07-19T12:53:30Z</dcterms:modified>
  <cp:revision>7</cp:revision>
  <dc:subject/>
  <dc:title>JOINTS  IN THE SKELETAL SYSTEM</dc:title>
</cp:coreProperties>
</file>